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457A-505A-47DF-BC4F-447B1E31A8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B7D-162B-4CFB-8ECF-ECBEFFAF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FD9-452E-47C5-931E-B15DB16F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0311-834D-46E7-B88F-39776EAA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42E7-4027-4A2D-962F-CD517639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76F-F56A-4C2F-83F8-21DA9175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46C-5F47-4E20-AA0F-1D239402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193-7A9A-4801-8D19-27940CED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6FF-9F8A-4A54-B632-FD11E0BB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281B-7019-46A1-A551-438B49CB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821-42CB-4B54-AC13-DC51E675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7D4-6278-4897-8077-CB85713F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6D2-1DB6-4B6E-8596-AD0B2E85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421F-8893-44E8-8E50-3303A9315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lecule is the basic unit of a molecular comp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e how molecules form by sharing electrons in this fig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666800"/>
            <a:ext cx="723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sitive sodium ion and the negative chloride ion are strongly attracted to each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34704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ttraction, which holds the ions close together, is a type of chemical bond called an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ionic 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3520" y="1219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und sodium chloride, or table salt,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213372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ure substance containing two or more elements that are chemically bon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m30"/>
          <p:cNvPicPr/>
          <p:nvPr/>
        </p:nvPicPr>
        <p:blipFill>
          <a:blip r:embed="rId1"/>
          <a:stretch/>
        </p:blipFill>
        <p:spPr>
          <a:xfrm>
            <a:off x="714240" y="4084560"/>
            <a:ext cx="77155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62160"/>
            <a:ext cx="3733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lements lose or gain more than one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2666880"/>
            <a:ext cx="36576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 magnesium, Mg, in Group 2 has two electrons in its outer energy lev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im31"/>
          <p:cNvPicPr/>
          <p:nvPr/>
        </p:nvPicPr>
        <p:blipFill>
          <a:blip r:embed="rId1"/>
          <a:stretch/>
        </p:blipFill>
        <p:spPr>
          <a:xfrm>
            <a:off x="4419720" y="1371600"/>
            <a:ext cx="4190760" cy="349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33520" y="4975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 can lose these two electrons and achieve a completed energy le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4796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, such as oxygen, need to gain two electrons to achieve st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6478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electrons released by one magnesium atom could be gained by a single atom of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426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s happens, magnesium oxide (MgO) is form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68880" y="685800"/>
            <a:ext cx="552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alent Bonds—Sh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80648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 are unlikely to lose or gain electrons because the number of electrons in their outer levels makes this difficu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33520" y="374976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ternative is sharing electr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317600"/>
            <a:ext cx="815328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emical bond that forms between nonmetal atoms when they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val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S0306AA.avi" descr=""/>
          <p:cNvPicPr/>
          <p:nvPr/>
        </p:nvPicPr>
        <p:blipFill>
          <a:blip r:embed="rId1"/>
          <a:stretch/>
        </p:blipFill>
        <p:spPr>
          <a:xfrm>
            <a:off x="2743200" y="28623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3288240" y="563868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ca22"/>
                </a:solidFill>
                <a:latin typeface="Times New Roman"/>
              </a:rPr>
              <a:t>Click image to view mov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4954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electrons are attracted to the nuclei of both ato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3520" y="267660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ove back and forth between the outer energy levels of each atom in the covalent b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3520" y="4302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each atom has a stable outer energy level some of th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utral particle is formed when atoms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23:40:41Z</dcterms:created>
  <dc:creator>CIC1</dc:creator>
  <dc:description/>
  <dc:language>en-US</dc:language>
  <cp:lastModifiedBy>RomaK</cp:lastModifiedBy>
  <dcterms:modified xsi:type="dcterms:W3CDTF">2015-09-02T05:52:59Z</dcterms:modified>
  <cp:revision>7</cp:revision>
  <dc:subject/>
  <dc:title>Ionic, Covalent, and Metallic bonding</dc:title>
</cp:coreProperties>
</file>